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5B4745-A872-4804-98C4-5E3C5721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2D224-9F92-4DA8-B22D-965AE44B97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E72-88A6-4F6B-B74A-177DAC7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09A-1028-4C2C-84C2-2344FA08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FA4-18BC-41E9-ACB8-92195BD9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2F7-B321-44C5-9AEB-20C6B261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D8F6-FAC8-4CC7-A368-687B1C87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B0C-2831-4D3A-B7A2-36F17893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F120-5835-4CD9-9D80-9541111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14BE-C407-4D7D-8CD2-944122DB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91C-B9E6-49C2-A796-A0F515D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89D-AA03-41B6-A136-55C2DA4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5BA9-D74C-48BF-AD27-4E4EED6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DD0-5F93-4DCF-90F6-FF3E0C2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433-7F10-43E8-9199-B0D761B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217-CEF3-4852-A5D1-604AB00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43F-8E61-4AEF-A1D4-F1034D45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13B3-2895-46DC-A5FC-9DCADB6E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263B-DAEC-4ED2-82F1-D738F3D1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EE0-2EE7-4A91-9133-8BF14DF8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2E2-8C94-440B-8220-0EDA8E2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3A1-8758-45B0-801F-13BC1C16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0CD-D7C0-49E9-8467-D5C474D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2EE-88F6-44A1-89C1-9A55BD3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1CB-8C00-465F-AE42-A603CF5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DE9-02C7-437B-BFB5-D49CB28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827BDB-5925-4629-B10C-64F52B7D4519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24FE6-576E-4F4D-856C-AF74E064B382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avim.com/image/34179/" TargetMode="External"/><Relationship Id="rId2" Type="http://schemas.openxmlformats.org/officeDocument/2006/relationships/hyperlink" Target="http://favim.com/image/34179/" TargetMode="External"/><Relationship Id="rId3" Type="http://schemas.openxmlformats.org/officeDocument/2006/relationships/hyperlink" Target="http://www.simplypsychology.org/bruner.html" TargetMode="External"/><Relationship Id="rId4" Type="http://schemas.openxmlformats.org/officeDocument/2006/relationships/hyperlink" Target="http://www.simplypsychology.org/bruner.html" TargetMode="External"/><Relationship Id="rId5" Type="http://schemas.openxmlformats.org/officeDocument/2006/relationships/hyperlink" Target="https://www.gcfdn.org/donors/fundsofthefoundation/proctergamblecharitablegiving/friendsforlifefund/tabid/326/default.aspx" TargetMode="External"/><Relationship Id="rId6" Type="http://schemas.openxmlformats.org/officeDocument/2006/relationships/hyperlink" Target="https://www.gcfdn.org/donors/fundsofthefoundation/proctergamblecharitablegiving/friendsforlifefund/tabid/326/default.aspx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62120" y="1143000"/>
            <a:ext cx="9143640" cy="32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00b0f0"/>
                </a:solidFill>
                <a:latin typeface="HandelGothic"/>
              </a:rPr>
              <a:t>Learning Biology Through the Different Modes of Represent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2133720"/>
            <a:ext cx="6479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Topic: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NACTIVE(action-based)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e-School/Kind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8904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The student learns about the cat through imitating the actions of the cat and sometimes the sound of a c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92000" y="3809880"/>
            <a:ext cx="3889800" cy="290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733560" cy="29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conic ( image-based)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ment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Here the student learn about a cat through im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Ex. They learn that a cat is a carnivore through the food cha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057400" y="3689280"/>
            <a:ext cx="371448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ymbolic(Ianguage based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In this representation a student learns about the cat by identifying the different body parts of a cat and also through dissecting and defining the internal parts of the c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131480" y="4038480"/>
            <a:ext cx="3466080" cy="259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635000" y="3792600"/>
            <a:ext cx="4304160" cy="28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Group Members and Task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vin Maruya – reporter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ish Haque – reporter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isdale Barsales – repor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vin Mata – powerpoint mak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feren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favim.com/image/34179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www.simplypsychology.org/bruner.ht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https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www.gcfdn.org/donors/fundsofthefoundation/proctergamblecharitablegiving/friendsforlifefund/tabid/326/default.asp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108</TotalTime>
  <Application>LibreOffice/7.4.7.2$Linux_X86_64 LibreOffice_project/40$Build-2</Application>
  <AppVersion>15.0000</AppVersion>
  <Words>130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3:58:09Z</dcterms:created>
  <dc:creator>Bob Mata</dc:creator>
  <dc:description/>
  <dc:language>en-US</dc:language>
  <cp:lastModifiedBy>Imperialdramon</cp:lastModifiedBy>
  <dcterms:modified xsi:type="dcterms:W3CDTF">2012-07-25T22:16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